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56714"/>
        <c:axId val="66015720"/>
      </c:barChart>
      <c:catAx>
        <c:axId val="14856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5720"/>
        <c:crosses val="autoZero"/>
        <c:auto val="1"/>
        <c:lblAlgn val="ctr"/>
        <c:lblOffset val="100"/>
        <c:noMultiLvlLbl val="0"/>
      </c:catAx>
      <c:valAx>
        <c:axId val="6601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6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8AC-F532-4C93-99BE-16695D23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6D2-5E5E-45AE-A14A-8139D0B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338-B23A-427B-8B48-CA5E6EC8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D60-A20D-45A9-B97B-195A1A60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85C-FE88-45F9-8C79-DC15E8FF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B7F-09AA-4288-A9C3-A1BACC81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CFB-7765-4F0D-8EC4-CE734CD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887-8897-4D5C-91D0-D6A6F34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F9E-63C1-4261-9AF6-E109B82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87A-FBB0-4A93-94D8-8768026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4CE-423F-400A-A22F-3A67C69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F46-2420-4A22-912D-3ABAC87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5B0D0-C0E6-44CF-B3B5-82B70B765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