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71682"/>
        <c:axId val="7307170"/>
      </c:barChart>
      <c:catAx>
        <c:axId val="99271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7170"/>
        <c:crosses val="autoZero"/>
        <c:auto val="1"/>
        <c:lblAlgn val="ctr"/>
        <c:lblOffset val="100"/>
        <c:noMultiLvlLbl val="0"/>
      </c:catAx>
      <c:valAx>
        <c:axId val="7307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71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BBB-1FB2-4F93-9D59-0C9B4B34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AF3-5739-4769-814C-A92828C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31E-D674-4B72-A702-4DC5CF03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B32-54CB-4EB1-A822-2D764E7D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CA7-DB9D-487D-9424-DFF88001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FCF-2507-43C5-937F-DECB1997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AC9-CB39-421E-8039-0837CA2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1B5-EB67-4989-8067-343F9A3C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6B4-1492-4E6D-9243-6FFF2F24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30F-F4F0-4111-9C14-35D01FD3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A67-9755-4ED2-B135-7D31FA1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E9E-366E-4543-AD46-1F29F84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A0336-4399-4F19-BD5D-C00EAD193C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