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64670"/>
        <c:axId val="35277574"/>
      </c:barChart>
      <c:catAx>
        <c:axId val="52064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77574"/>
        <c:crosses val="autoZero"/>
        <c:auto val="1"/>
        <c:lblAlgn val="ctr"/>
        <c:lblOffset val="100"/>
        <c:noMultiLvlLbl val="0"/>
      </c:catAx>
      <c:valAx>
        <c:axId val="35277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64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349-7B20-4102-9EA1-28C9A31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040-2E41-4EAA-9BC5-F3C270C2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59D-F3D1-4D0F-819A-F14DF8F5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9FB-BC71-4BD3-998B-ACB50550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0CB-CFEC-4ED7-B73E-3160E99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F8F-5030-4224-9DB8-4ACBC9B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8C7-57DA-4A6B-806B-C59068B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3A9-D6A8-47A6-A171-1AB62A3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F1A-9737-4F86-92C5-8A9F6E7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5CC-17C7-4D07-AD4A-EBDE2CE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CEC-4F61-4CE7-B622-5BBC445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959-20E2-4C97-96DF-5656D22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070A0-C2C1-4230-91B0-9747F5BF2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