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99233"/>
        <c:axId val="41244723"/>
      </c:barChart>
      <c:catAx>
        <c:axId val="28699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44723"/>
        <c:crosses val="autoZero"/>
        <c:auto val="1"/>
        <c:lblAlgn val="ctr"/>
        <c:lblOffset val="100"/>
        <c:noMultiLvlLbl val="0"/>
      </c:catAx>
      <c:valAx>
        <c:axId val="41244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9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2AB-1C4C-4026-9C82-3346B9EB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77D-AB34-42DD-8170-9CC01EB3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B10-A779-476F-A9AF-4834251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EDC-3B6F-44DA-973C-9FEED2D4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DAE-0C76-42A5-BF5D-E78D4D8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1F8-B004-43B7-A7EE-356323A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FB3-C569-4C8F-8DC9-3A993C2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215-9275-41C2-98D5-7500747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633-DF20-4A95-8C6E-B25DA2DF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7B7-8B43-44DF-9C7B-81B024E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8F2-F97D-4D44-B9A9-5C051441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300-5665-4BF8-ABFB-CB4693E5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BD61F-5A38-4026-AE64-EE33B623A0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