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7104"/>
        <c:axId val="37421997"/>
      </c:barChart>
      <c:catAx>
        <c:axId val="26071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21997"/>
        <c:crosses val="autoZero"/>
        <c:auto val="1"/>
        <c:lblAlgn val="ctr"/>
        <c:lblOffset val="100"/>
        <c:noMultiLvlLbl val="0"/>
      </c:catAx>
      <c:valAx>
        <c:axId val="37421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7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9883-3102-4D06-9F7A-26372B32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CC7C-EE62-486B-82CD-4C7F13A6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B470-62EA-4B09-A54D-E85074B4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CD9-B860-45A8-8B19-27B44A5C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D48-FB2B-4505-955E-55E239C9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9E3-28D7-4C70-B7A1-BF5CA217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C6FB-0CBD-41FD-88D9-602235D6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9AF-D041-4A9E-9E9A-E128832A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DFDA-17F4-4DD3-BA0B-190AFB46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FD7-F83C-435D-9660-09B07312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8D6-A06A-4CAE-BA00-ED61461E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F2F5-C8B6-45F4-8F53-C1BBD22C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8C244-D01A-46F6-8085-58F2EE6997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