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06375"/>
        <c:axId val="85596597"/>
      </c:barChart>
      <c:catAx>
        <c:axId val="94506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6597"/>
        <c:crosses val="autoZero"/>
        <c:auto val="1"/>
        <c:lblAlgn val="ctr"/>
        <c:lblOffset val="100"/>
        <c:noMultiLvlLbl val="0"/>
      </c:catAx>
      <c:valAx>
        <c:axId val="85596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6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669-CDEB-4F78-88C4-A852222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076-AA84-41B7-8436-2992ADDB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5CF-2A8B-48CE-ABB3-EF4580A1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E86-4467-43BB-99C8-294B2269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091-DD57-4B87-9897-6AB0885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528-1E33-447C-98E2-C992032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DBE-3FFB-45B2-94DC-D69F0D4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4FE-074F-46A8-8974-7090B93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7D7-BF6B-4EB2-AD65-274BE64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EB3-B71D-4E2E-8537-EA9BAE8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7A6-B159-4114-AC20-2851700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0DF-E775-4F21-AEB6-0B4D67A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0A1BA-6F3E-43AD-977E-35BD69432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