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5433409"/>
        <c:axId val="74084857"/>
      </c:barChart>
      <c:catAx>
        <c:axId val="1543340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084857"/>
        <c:crosses val="autoZero"/>
        <c:auto val="1"/>
        <c:lblAlgn val="ctr"/>
        <c:lblOffset val="100"/>
        <c:noMultiLvlLbl val="0"/>
      </c:catAx>
      <c:valAx>
        <c:axId val="7408485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43340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78E5C-A229-4180-B86D-5008DB0FC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081CD-F9F6-4E2E-9F50-833A81AA4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CCEBA-960C-455B-B94D-5B9D7EA85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97990-F244-42F0-995B-D7CA24306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54FCC-6650-4639-9DAB-AD01D7B2E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AF94B-A643-4C99-9B44-D0B8A1A34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14DE0-4C36-4C66-987C-BB1B6D06E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D651C-CD86-4281-919A-35E84143D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65311-98BC-4217-BB76-AC60F9F5D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B3A2F-6C9D-462D-86ED-497D2C081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EF735-9E2A-452A-ABCE-61DC824BA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EAAE0-8A67-4377-A242-79F396593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E808F0-244E-4AF4-81B8-8AE34962041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