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59744"/>
        <c:axId val="93132910"/>
      </c:barChart>
      <c:catAx>
        <c:axId val="339597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32910"/>
        <c:crosses val="autoZero"/>
        <c:auto val="1"/>
        <c:lblAlgn val="ctr"/>
        <c:lblOffset val="100"/>
        <c:noMultiLvlLbl val="0"/>
      </c:catAx>
      <c:valAx>
        <c:axId val="93132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597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AAB-6EF0-4A38-BB2B-C66C8A39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BF13-8FAB-48D3-82AA-7E16DD74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7F5E-8922-4D22-8CCD-B321F1D9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C349-E179-4E2D-819B-862C3973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811A-C142-49B8-999D-7B4D6BC5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3B5-1493-46E6-B8F8-13D0DCF5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645-E11E-487C-A898-9E81F050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B91C-55C5-499E-9D87-F16953FE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DE3-B19A-4F55-8029-F3559987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7D0-12B1-45F7-8F15-FF7D3368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84BF-29F2-466D-917A-C8C19B17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2DFD-7560-41C1-BC1D-42FF825D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F07F5-A5D0-4813-B9D1-672B787CDA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