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6A6BC-9915-4683-A58C-FA71C9D68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DA182-228D-46C4-B33E-EDCE7A169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46059-DFF6-4AB4-B2B0-0C0507C00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67E06-FFD4-402D-8EFE-1FEEEC8CE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D069D-EDFC-4DE1-AD80-637AC851A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0609E-89E6-4033-8A9A-D96BE5E15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BBDBE-BAC8-429E-8111-F1F5360B9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3EC91-D358-411F-A56E-E760B3E99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5F5D0-033E-4F13-AD24-BE9E404C2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0AB9F-30BA-48F1-A2A7-3675B2A37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0584F-0AAA-4A0A-82F2-98943292B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434E6-10A4-471A-9D2F-DEB8903C5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81DFB-857C-4EFE-B20D-5C42EBFB9148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hexagon">
            <a:avLst>
              <a:gd name="adj" fmla="val 50003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x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plus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r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pentag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gular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Folded Cor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miley 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donut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n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noSmoking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“No“ Symb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parallelogram">
            <a:avLst>
              <a:gd name="adj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arallel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lock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91640 w 7197480"/>
              <a:gd name="textAreaRight" fmla="*/ 5501160 w 7197480"/>
              <a:gd name="textAreaTop" fmla="*/ 423000 h 3598560"/>
              <a:gd name="textAreaBottom" fmla="*/ 2257200 h 35985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ightningBol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ightning Bo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M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-6838200" y="358920"/>
            <a:ext cx="14394240" cy="719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24080 w 7197480"/>
              <a:gd name="textAreaRight" fmla="*/ 6773400 w 7197480"/>
              <a:gd name="textAreaTop" fmla="*/ 424080 h 3598560"/>
              <a:gd name="textAreaBottom" fmla="*/ 3174480 h 3598560"/>
            </a:gdLst>
            <a:ahLst/>
            <a:rect l="textAreaLeft" t="textAreaTop" r="textAreaRight" b="textAreaBottom"/>
            <a:pathLst>
              <a:path w="432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9600" y="21600"/>
                </a:lnTo>
                <a:arcTo wR="3600" hR="3600" stAng="10800000" swAng="5400000"/>
                <a:lnTo>
                  <a:pt x="43200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la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115720 w 7197480"/>
              <a:gd name="textAreaRight" fmla="*/ 719784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582560 w 7197480"/>
              <a:gd name="textAreaRight" fmla="*/ 5614920 w 7197480"/>
              <a:gd name="textAreaTop" fmla="*/ 791280 h 3598560"/>
              <a:gd name="textAreaBottom" fmla="*/ 280728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Trapez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504828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598280 w 7197480"/>
              <a:gd name="textAreaRight" fmla="*/ 719784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259920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iam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ounded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Isosceles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22:04Z</dcterms:created>
  <dc:creator>tb121644</dc:creator>
  <dc:description/>
  <dc:language>en-US</dc:language>
  <cp:lastModifiedBy>tb121644</cp:lastModifiedBy>
  <dcterms:modified xsi:type="dcterms:W3CDTF">2005-05-25T09:56:44Z</dcterms:modified>
  <cp:revision>2</cp:revision>
  <dc:subject/>
  <dc:title>Slide 1</dc:title>
</cp:coreProperties>
</file>