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4F80-ABD2-41B0-AC37-91E90EB3C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9EF8-E81B-4CEC-A629-831F807E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D418F3-7693-4A4F-B1B2-1F4F2607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2EC21A-298E-4C91-B6C0-2118E979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0FD89B-F513-4DCA-B840-8C017E5A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C7C00F-0186-4B89-8702-4D4A940C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6B1375-03A4-4BFB-A0E2-5A5A82DF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AF555F-EAD5-4CB7-9127-D41CBD17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C0CE9-D449-4B82-A444-99C8D8AA2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0AEF82-7EAA-4EBD-BA23-A1A823EC4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DDEBA4-8872-4792-847C-416C07E40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52CD28-67E7-40E8-8163-6F0575923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A832-1F62-4D36-8C7C-555D2C04C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63E288-9B61-4EB6-9C99-2B3C1B4B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F76949-0649-417C-AB73-D3B36209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385DB2-59A0-472C-9881-1819EEB3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4AAE12-37D6-465D-9E8D-3AB66916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D25A17-8786-4899-80AE-1C97B9D7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F417B6-4BC3-4EE1-9AF0-A6BD9979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F08E98-A47A-4339-BBA1-6670ECFC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A910C9-4638-4E7F-BE25-2BE48D29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831D0C-C827-481B-9473-607AD0D6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2831EF-F3CC-47D5-9B76-D6D879F6C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262D-D837-4038-A30B-2BAA98CD0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3B7561-0D27-44FA-9CF1-91C7E0E30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465AB0-EE42-4C68-A2D8-E68480B8E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E1E92-E3C6-4489-A815-2C126987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05CAD3-9E67-4C13-BBB7-4FDF3C8C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37690-9F82-4E32-8C13-D2DF3374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3D801D-09D3-4538-940A-5588254E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D557AA-B01C-4870-AB65-50192635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77D106-2FEF-4ABE-B9E5-590744F2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D371F-A00B-4D94-AEFE-177F21C3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6A3334-A28F-4869-B54E-0CD18736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7A9A8-242F-4C03-BE12-4D84EB28C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D23720-10F5-4A10-9136-8487B4C5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31B76-76DA-4CDA-913A-515C863BC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C2A2C6-9DA5-45E7-AB49-B308F5447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CA9A72-7AA1-45FC-A651-EEF9DBF4A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DE6ECF-279A-4276-A729-972FAA93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FCB464-1E0E-46C6-8B56-30BC2CEB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1D73BD-01BF-482E-BEBF-9602064B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D19981-062B-49A4-BC61-51413149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0A11D6-2495-4783-854F-DCA01B1D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DA01FC-A5CC-4F96-A827-55FC284D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7EF8E-0B68-40E5-A3B2-7C449E0F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A9B2C4-7627-4E98-80F1-84A9B10F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DA3AA7-CC58-4B69-BDC0-24BF4165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8CB616-2A2D-46B3-B46F-212C5E28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8CD7C0-7EB4-47F1-BCB5-2A434F0C1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2BD6EB-94E1-4348-8199-BDF5D3B05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5F87-7DD3-4BEB-BFEB-A849B3D1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C01D-8767-4D96-974D-6D247D12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CDB6-DBE1-4B16-8791-14BFE9C9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FF37-824F-42DF-8657-9D3D18DF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5B9F-141C-44C1-AD78-492C3442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08D5-5D34-42A6-B065-284A7D84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8D90-F9AC-485D-8935-EFA039A7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C310-CC5F-4EED-969C-CC913A61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D71D9-B6D8-4B34-8B2A-298DE071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B4DA-AAC0-4248-AEBA-B49DC771B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622AC-B559-4244-817A-8D2E51B25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FE1E5-7EDE-42AE-BF37-BD0760ACF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F365F-3232-4E6E-82EA-AECE73E0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31124-C2FB-455B-B990-AACDE36E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3BAE7-FFF9-4413-9B7B-569E70AD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4D96C-A2F7-42D1-A2D2-EF667718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2232-CDD5-4C9A-A360-43FFE57A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63649-4FBF-40AB-B8C3-772BA840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4C35C-5339-4191-85BD-F7FCBA7D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614FB-BE12-48BE-86A6-4BB16391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7E95A-FC25-4868-9128-8552EAFC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82534-0342-413B-80AD-B0DF65A3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8968C-0A7A-4BA6-A385-CECE94588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89E4C-39E8-4FC7-B7CD-48527C897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E7F14-5390-4A1A-BDE7-0374AF582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94937-BEAD-4F87-A96D-7EFAFCFB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09758-A2D1-4DEC-8532-28E85FD2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468E-3BD3-493C-9499-2CF6A0C3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44B46-77A9-44D4-9BE4-B33A6FD5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3732D-7A5F-4109-9003-D4A65D54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97092-1F5B-42FA-8F48-8D408B23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3AED0-6EBE-472C-8AA0-3BD50636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7BBC8-8E75-4391-92A9-95D032E6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15F22-4F85-406A-9F5D-DCA7562D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D7D93-C1F5-4A7F-A663-45972215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28A61-12CE-4A23-B0EE-269D17320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5871E-0F7D-47D5-8F82-775A821E4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4AFB8C-E16A-4FF1-9C4B-7302A5490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0B0A-DE48-4C9E-AA94-F04C6785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9AB264-B7FD-4BEA-A008-5AECC686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DF6680-9C31-410C-ADF5-F784C504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F5B02C-36B4-4081-8AD8-8F7F8DC2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7B8C02-E17B-4251-BE4D-C00F0086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F3FBB8-152D-4F7C-BA53-7638C1CC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C3CC5C-C1D3-40DF-9D2A-8349C4A7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89226B-DA22-4F2B-B73F-5203959D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5586D7-AEF0-48DE-B462-C6C6838E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46B0DD-DEBD-4D0E-A704-136B86DC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69BFF8-2771-4B90-9312-1B2FD6E75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1321-01E7-4308-B846-EA7A2BF9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ED7347-1250-4736-9715-530B992AD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DA12D-34DF-4C98-9FB1-343C35DB5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7EADD-313C-464A-A81C-2203E579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2D6FF-166C-4321-B5EC-2BB0E21D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9C2D9-B5F5-4803-B0BF-04C77600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E01E1-766F-400E-B121-D4FC3F83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F8024-8D96-428F-9E54-F5589C66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10953-338F-43C6-8C53-A39C758E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FFBB8-3594-495C-B2AF-F1201D7D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3FE61-979A-4827-BC68-715B1129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9D72-B385-4CDE-BB27-C672F677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37F6E-D92B-4A60-92C1-79032A6D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D7467-58EA-4730-A202-808B72FDB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0420D-536C-455E-B004-72A2AB7D0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6A284-A661-4614-86A8-3346EC6EB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DFBFC-2C1F-49E0-AEBB-28F1E1A3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E67A1-635E-415C-85A6-4D8BAACF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967FC-AD31-4C87-91C5-C37F60F0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8FC97-6AF3-4D31-959B-144E18B1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575F7-FC5B-4A29-B403-9F8CD5EF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F20B2-BD51-4114-9A82-AC97F546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DA22-4DF9-4537-BEF7-7A675FB3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ADF57-E57C-4E92-86AF-CE8256E8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2C7E6-4E9C-4D9E-A0F7-C2D3B4CB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5BAFC-62E3-4BAE-BD83-557DA9B8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3E28F-9831-4E69-89C3-68398988D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DA86F-3CB3-4344-9E25-962263503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3D8F5-42FB-4CBC-B784-6007D7621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960DB-1C87-441D-B595-7B55373C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D101C-5080-406B-B0C3-8DA57F50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3845D-2822-4C21-B211-57B11CAA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F4927-F0FD-400E-8295-BA2CA117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A27B-D486-4996-BB6B-0A810375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59705-43DB-4070-8F3D-A88ED2AF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99EFE-44BD-48F0-B3AC-7D7A4AC1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C620B-89B4-4FAF-9FFD-BB68045E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444F6-33D8-4434-9367-8D56EFE5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4E0FA-E3EE-4F4F-A0F0-AA4F59E9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52B44-57AC-49C5-906B-2D5D71679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B63D0-84C9-450F-94A7-9EF851954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00438-1466-47D7-A7C5-825F283C3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757AF8-E3F3-40E0-ACA6-68D887C6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AD6D73-0433-4CDE-A55F-6B07C9B6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21AA-EAAD-4F3F-8449-97915D401971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A488-8016-46C5-B49F-6C0EBE7674C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784E-0A5A-494E-911B-E0028FED754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489D-965F-4C34-BBEC-B4FFEA2B6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1071-ECE0-432E-9F61-E39724B363A2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08B5-00A5-4D7D-ADE8-385560F7EE0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5AB2-7A2F-4762-AAA7-683998ED6679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FB53-2D39-4E1E-8DC8-28E0556D117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051D-423E-4A19-8D1F-39F5D137A93C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B38A-4AB3-452B-81D1-51077245009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9432-5DE8-464D-85C9-969A8ECE7A1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1686-9791-4EF3-9278-D47FC21CD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A011-8061-4797-906B-2500D013300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9833-A123-4C17-9C41-5516B9B3D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73AA-FE91-48E4-A45D-B7E4C690590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D621-8B30-4C37-82AB-7E4759DE702B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A33F-2327-4514-BDBF-9E1227ADE890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4B6D-AE29-4666-B507-84D2F9DEA20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6A44-C50E-45A6-9AEA-1F9880C3FB96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82D8-9C30-40F7-AC45-8CFD09A7234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55FB-F3D4-4EE6-99C0-11E09C62D3A1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07A8-02C5-467C-9231-B4D54715452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0EBA-AC49-4941-8624-91E4FB5534F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7EBA-BFD9-4A0D-AE4D-1B44F5A1D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FA18-C5DA-48EA-BF99-306C3D3BF31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68BE6A-20B4-4C10-A5F6-29242E74BAD7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C6EA5-D7CF-4E4B-8EEC-EB95747FF61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CBB54978-5C2C-474C-BB55-76BC58093F07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randombar(vertical)" transition="out">
                                      <p:cBhvr additive="repl">
                                        <p:cTn id="119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35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84F92-22E1-4B7A-91A4-D97323640237}" type="slidenum">
              <a:t>3</a:t>
            </a:fld>
          </a:p>
        </p:txBody>
      </p:sp>
    </p:spTree>
  </p:cSld>
  <p:transition>
    <p:comb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80139E-1387-4DA6-80A5-21135619E3A1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C5D7AFCB-22C2-4D80-9ECB-876899E4A89C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97526-E1E0-4819-8910-F9EE3B7E898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8DF9A4B6-53F0-4C97-A9AB-E5AD430BDE98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000"/>
                            </p:stCondLst>
                            <p:childTnLst>
                              <p:par>
                                <p:cTn id="2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7000"/>
                            </p:stCondLst>
                            <p:childTnLst>
                              <p:par>
                                <p:cTn id="3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8000"/>
                            </p:stCondLst>
                            <p:childTnLst>
                              <p:par>
                                <p:cTn id="3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000"/>
                            </p:stCondLst>
                            <p:childTnLst>
                              <p:par>
                                <p:cTn id="3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6D6614-CC1D-4BF0-8215-F0C5BA0328D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1EF60B0D-4010-4F4A-B163-33D9B75B977D}" type="datetime1">
              <a:rPr lang="en-US"/>
              <a:t>07/31/26</a:t>
            </a:fld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