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392fe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040" y="1676160"/>
            <a:ext cx="8001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914040" y="3944880"/>
            <a:ext cx="8001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392fe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14040" y="167616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13720" y="167616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14040" y="394488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13720" y="394488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392fe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040" y="1676160"/>
            <a:ext cx="257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19440" y="1676160"/>
            <a:ext cx="257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24840" y="1676160"/>
            <a:ext cx="257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914040" y="3944880"/>
            <a:ext cx="257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19440" y="3944880"/>
            <a:ext cx="257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24840" y="3944880"/>
            <a:ext cx="257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392fe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914040" y="167616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392fe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14040" y="167616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392fe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14040" y="1676160"/>
            <a:ext cx="3904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13720" y="1676160"/>
            <a:ext cx="3904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392fe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14040" y="304560"/>
            <a:ext cx="80010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392fe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040" y="167616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13720" y="1676160"/>
            <a:ext cx="3904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914040" y="394488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392fe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14040" y="1676160"/>
            <a:ext cx="3904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13720" y="167616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13720" y="394488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392fe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040" y="167616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13720" y="167616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040" y="3944880"/>
            <a:ext cx="8001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email-0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392fe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c392fe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14040" y="167616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marL="343080" indent="-343080">
              <a:lnSpc>
                <a:spcPct val="85000"/>
              </a:lnSpc>
              <a:spcBef>
                <a:spcPts val="751"/>
              </a:spcBef>
              <a:buClr>
                <a:srgbClr val="c392fe"/>
              </a:buClr>
              <a:buSzPct val="65000"/>
              <a:buFont typeface="Wingding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838080" y="12600"/>
            <a:ext cx="1828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cc"/>
                </a:solidFill>
                <a:latin typeface="Arial"/>
              </a:rPr>
              <a:t>Slide </a:t>
            </a:r>
            <a:fld id="{FF99028F-E4E6-455C-ABD9-1C2DE5B3C0ED}" type="slidenum">
              <a:rPr b="0" lang="en-GB" sz="1400" spc="-1" strike="noStrike">
                <a:solidFill>
                  <a:srgbClr val="0000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38080" y="6705720"/>
            <a:ext cx="48769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99"/>
                </a:solidFill>
                <a:latin typeface="Arial"/>
              </a:rPr>
              <a:t>A Free sample background from www.powerpointbackgrounds.com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251840" y="12600"/>
            <a:ext cx="1828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22268"/>
                </a:solidFill>
                <a:latin typeface="Arial"/>
              </a:rPr>
              <a:t>© 2003 By Default!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371600" y="609480"/>
            <a:ext cx="7086600" cy="1371600"/>
          </a:xfrm>
          <a:prstGeom prst="rect">
            <a:avLst/>
          </a:prstGeom>
          <a:gradFill rotWithShape="0">
            <a:gsLst>
              <a:gs pos="0">
                <a:srgbClr val="280065"/>
              </a:gs>
              <a:gs pos="100000">
                <a:srgbClr val="6600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447560" y="685440"/>
            <a:ext cx="6933960" cy="1219320"/>
          </a:xfrm>
          <a:prstGeom prst="rect">
            <a:avLst/>
          </a:prstGeom>
          <a:gradFill rotWithShape="0">
            <a:gsLst>
              <a:gs pos="0">
                <a:srgbClr val="6600ff"/>
              </a:gs>
              <a:gs pos="100000">
                <a:srgbClr val="33007f"/>
              </a:gs>
            </a:gsLst>
            <a:lin ang="13500000"/>
          </a:gradFill>
          <a:ln w="0">
            <a:noFill/>
          </a:ln>
        </p:spPr>
        <p:txBody>
          <a:bodyPr lIns="36000" rIns="36000" tIns="46800" bIns="46800" anchor="ctr" anchorCtr="1">
            <a:noAutofit/>
          </a:bodyPr>
          <a:p>
            <a:pPr indent="0" algn="ctr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e-mail” Title Slide</a:t>
            </a:r>
            <a:endParaRPr b="1" lang="en-US" sz="4000" spc="-1" strike="noStrike">
              <a:solidFill>
                <a:srgbClr val="c392fe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676520" y="38858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Welcome to this presentation from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www.powerpointbackgrounds.com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We hope you enjoy i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392fe"/>
                </a:solidFill>
                <a:latin typeface="Arial"/>
              </a:rPr>
              <a:t>Bullet List</a:t>
            </a:r>
            <a:endParaRPr b="1" lang="en-US" sz="4000" spc="-1" strike="noStrike">
              <a:solidFill>
                <a:srgbClr val="c392fe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914040" y="167616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marL="343080" indent="-343080">
              <a:lnSpc>
                <a:spcPct val="85000"/>
              </a:lnSpc>
              <a:spcBef>
                <a:spcPts val="751"/>
              </a:spcBef>
              <a:buClr>
                <a:srgbClr val="c392fe"/>
              </a:buClr>
              <a:buSzPct val="65000"/>
              <a:buFont typeface="Wingding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To use this template, first save this presentation using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File, Save As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Then type in a new nam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51"/>
              </a:spcBef>
              <a:buClr>
                <a:srgbClr val="c392fe"/>
              </a:buClr>
              <a:buSzPct val="65000"/>
              <a:buFont typeface="Wingding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Then simply copy each page that you need before you edit i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51"/>
              </a:spcBef>
              <a:buClr>
                <a:srgbClr val="c392fe"/>
              </a:buClr>
              <a:buSzPct val="65000"/>
              <a:buFont typeface="Wingding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So if you need another bullet lis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Click on the “Insert” menu abov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Click on “Duplicate Slide”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51"/>
              </a:spcBef>
              <a:buClr>
                <a:srgbClr val="c392fe"/>
              </a:buClr>
              <a:buSzPct val="65000"/>
              <a:buFont typeface="Wingding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The same applies for the Bars, Pies etc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990720"/>
            <a:ext cx="8458200" cy="96840"/>
          </a:xfrm>
          <a:prstGeom prst="rect">
            <a:avLst/>
          </a:prstGeom>
          <a:gradFill rotWithShape="0">
            <a:gsLst>
              <a:gs pos="0">
                <a:srgbClr val="6600ff"/>
              </a:gs>
              <a:gs pos="100000">
                <a:srgbClr val="2f00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392fe"/>
                </a:solidFill>
                <a:latin typeface="Arial"/>
              </a:rPr>
              <a:t>Bar Graph</a:t>
            </a:r>
            <a:endParaRPr b="1" lang="en-US" sz="4000" spc="-1" strike="noStrike">
              <a:solidFill>
                <a:srgbClr val="c392fe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865080" y="1398600"/>
          <a:ext cx="7547040" cy="487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5080" y="1398600"/>
                    <a:ext cx="7547040" cy="48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066680" y="6324480"/>
            <a:ext cx="259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urce: Market Resear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066680" y="1295280"/>
            <a:ext cx="2590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Uni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990720"/>
            <a:ext cx="8458200" cy="96840"/>
          </a:xfrm>
          <a:prstGeom prst="rect">
            <a:avLst/>
          </a:prstGeom>
          <a:gradFill rotWithShape="0">
            <a:gsLst>
              <a:gs pos="0">
                <a:srgbClr val="6600ff"/>
              </a:gs>
              <a:gs pos="100000">
                <a:srgbClr val="2f00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392fe"/>
                </a:solidFill>
                <a:latin typeface="Arial"/>
              </a:rPr>
              <a:t>Line Graph</a:t>
            </a:r>
            <a:endParaRPr b="1" lang="en-US" sz="4000" spc="-1" strike="noStrike">
              <a:solidFill>
                <a:srgbClr val="c392fe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865080" y="1398600"/>
          <a:ext cx="7547040" cy="487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5080" y="1398600"/>
                    <a:ext cx="7547040" cy="48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/>
          <p:nvPr/>
        </p:nvSpPr>
        <p:spPr>
          <a:xfrm>
            <a:off x="1066680" y="6324480"/>
            <a:ext cx="259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urce: Market Resear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066680" y="1295280"/>
            <a:ext cx="2590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Uni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85800" y="990720"/>
            <a:ext cx="8458200" cy="96840"/>
          </a:xfrm>
          <a:prstGeom prst="rect">
            <a:avLst/>
          </a:prstGeom>
          <a:gradFill rotWithShape="0">
            <a:gsLst>
              <a:gs pos="0">
                <a:srgbClr val="6600ff"/>
              </a:gs>
              <a:gs pos="100000">
                <a:srgbClr val="2f00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392fe"/>
                </a:solidFill>
                <a:latin typeface="Arial"/>
              </a:rPr>
              <a:t>Pie Chart</a:t>
            </a:r>
            <a:endParaRPr b="1" lang="en-US" sz="4000" spc="-1" strike="noStrike">
              <a:solidFill>
                <a:srgbClr val="c392fe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865080" y="1398600"/>
          <a:ext cx="7547040" cy="487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5080" y="1398600"/>
                    <a:ext cx="7547040" cy="48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1066680" y="6324480"/>
            <a:ext cx="259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urce: Market Resear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990720"/>
            <a:ext cx="8458200" cy="96840"/>
          </a:xfrm>
          <a:prstGeom prst="rect">
            <a:avLst/>
          </a:prstGeom>
          <a:gradFill rotWithShape="0">
            <a:gsLst>
              <a:gs pos="0">
                <a:srgbClr val="6600ff"/>
              </a:gs>
              <a:gs pos="100000">
                <a:srgbClr val="2f00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4851360" y="1981080"/>
            <a:ext cx="0" cy="1752840"/>
          </a:xfrm>
          <a:prstGeom prst="line">
            <a:avLst/>
          </a:prstGeom>
          <a:ln w="38160">
            <a:solidFill>
              <a:srgbClr val="c392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3720" y="3048120"/>
            <a:ext cx="5562360" cy="761760"/>
          </a:xfrm>
          <a:custGeom>
            <a:avLst/>
            <a:gdLst/>
            <a:ahLst/>
            <a:rect l="l" t="t" r="r" b="b"/>
            <a:pathLst>
              <a:path w="3504" h="480">
                <a:moveTo>
                  <a:pt x="0" y="432"/>
                </a:moveTo>
                <a:lnTo>
                  <a:pt x="0" y="0"/>
                </a:lnTo>
                <a:lnTo>
                  <a:pt x="3504" y="0"/>
                </a:lnTo>
                <a:lnTo>
                  <a:pt x="3504" y="480"/>
                </a:lnTo>
              </a:path>
            </a:pathLst>
          </a:custGeom>
          <a:noFill/>
          <a:ln w="38160">
            <a:solidFill>
              <a:srgbClr val="c392f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392fe"/>
                </a:solidFill>
                <a:latin typeface="Arial"/>
              </a:rPr>
              <a:t>Diagram</a:t>
            </a:r>
            <a:endParaRPr b="1" lang="en-US" sz="4000" spc="-1" strike="noStrike">
              <a:solidFill>
                <a:srgbClr val="c392fe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441600" y="1537560"/>
            <a:ext cx="2819520" cy="715320"/>
          </a:xfrm>
          <a:prstGeom prst="rect">
            <a:avLst/>
          </a:prstGeom>
          <a:solidFill>
            <a:srgbClr val="333399"/>
          </a:solidFill>
          <a:ln w="28440">
            <a:solidFill>
              <a:srgbClr val="c392fe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 anchorCtr="1">
            <a:spAutoFit/>
          </a:bodyPr>
          <a:p>
            <a:pPr algn="ctr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Manager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omas Smi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143000" y="3442680"/>
            <a:ext cx="1981080" cy="715320"/>
          </a:xfrm>
          <a:prstGeom prst="rect">
            <a:avLst/>
          </a:prstGeom>
          <a:solidFill>
            <a:srgbClr val="333399"/>
          </a:solidFill>
          <a:ln w="28440">
            <a:solidFill>
              <a:srgbClr val="c392fe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 anchorCtr="1">
            <a:spAutoFit/>
          </a:bodyPr>
          <a:p>
            <a:pPr algn="ctr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ales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en Smi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708360" y="3442680"/>
            <a:ext cx="2286000" cy="715320"/>
          </a:xfrm>
          <a:prstGeom prst="rect">
            <a:avLst/>
          </a:prstGeom>
          <a:solidFill>
            <a:srgbClr val="333399"/>
          </a:solidFill>
          <a:ln w="28440">
            <a:solidFill>
              <a:srgbClr val="c392fe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 anchorCtr="1">
            <a:spAutoFit/>
          </a:bodyPr>
          <a:p>
            <a:pPr algn="ctr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Marketing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Lilli Smi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553080" y="3442680"/>
            <a:ext cx="2286000" cy="715320"/>
          </a:xfrm>
          <a:prstGeom prst="rect">
            <a:avLst/>
          </a:prstGeom>
          <a:solidFill>
            <a:srgbClr val="333399"/>
          </a:solidFill>
          <a:ln w="28440">
            <a:solidFill>
              <a:srgbClr val="c392fe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 anchorCtr="1">
            <a:spAutoFit/>
          </a:bodyPr>
          <a:p>
            <a:pPr algn="ctr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istribution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Georgia Smi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990720"/>
            <a:ext cx="8458200" cy="96840"/>
          </a:xfrm>
          <a:prstGeom prst="rect">
            <a:avLst/>
          </a:prstGeom>
          <a:gradFill rotWithShape="0">
            <a:gsLst>
              <a:gs pos="0">
                <a:srgbClr val="6600ff"/>
              </a:gs>
              <a:gs pos="100000">
                <a:srgbClr val="2f00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85800" y="990720"/>
            <a:ext cx="8458200" cy="96840"/>
          </a:xfrm>
          <a:prstGeom prst="rect">
            <a:avLst/>
          </a:prstGeom>
          <a:gradFill rotWithShape="0">
            <a:gsLst>
              <a:gs pos="0">
                <a:srgbClr val="6600ff"/>
              </a:gs>
              <a:gs pos="100000">
                <a:srgbClr val="2f00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392fe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040" y="167616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4T11:52:41Z</dcterms:created>
  <dc:creator>TAJ Simmons</dc:creator>
  <dc:description>From
www.powerpointbackgrounds.com
Messages do not appear on the full product.</dc:description>
  <dc:language>en-US</dc:language>
  <cp:lastModifiedBy>TAJ Simmons</cp:lastModifiedBy>
  <dcterms:modified xsi:type="dcterms:W3CDTF">2003-02-03T14:08:09Z</dcterms:modified>
  <cp:revision>41</cp:revision>
  <dc:subject/>
  <dc:title>Free Sample Awesome PowerPoint Background Template</dc:title>
</cp:coreProperties>
</file>