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2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powerpoint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8037FC7A-ACA1-44CE-9A27-74FD8F4A9F66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4419720" cy="190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7880" y="691200"/>
            <a:ext cx="3646080" cy="113148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hain Links”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itle Slide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presentation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powerpointbackground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343400"/>
            <a:ext cx="1981080" cy="685800"/>
          </a:xfrm>
          <a:prstGeom prst="ellipse">
            <a:avLst/>
          </a:prstGeom>
          <a:gradFill rotWithShape="0">
            <a:gsLst>
              <a:gs pos="0">
                <a:srgbClr val="67a5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dd your Logo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,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type in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0320" y="1499040"/>
            <a:ext cx="28926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omas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1720" y="3404160"/>
            <a:ext cx="20541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6708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li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1800" y="3404160"/>
            <a:ext cx="235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a92"/>
              </a:gs>
              <a:gs pos="50000">
                <a:srgbClr val="0066ff"/>
              </a:gs>
              <a:gs pos="100000">
                <a:srgbClr val="003a92"/>
              </a:gs>
            </a:gsLst>
            <a:lin ang="5400000"/>
          </a:gradFill>
          <a:ln w="28440">
            <a:solidFill>
              <a:srgbClr val="67a5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tt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2f4c75"/>
              </a:gs>
              <a:gs pos="50000">
                <a:srgbClr val="67a5ff"/>
              </a:gs>
              <a:gs pos="100000">
                <a:srgbClr val="2f4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powerpointbackgrounds.com
Messages do not appear on the full product.</dc:description>
  <dc:language>en-US</dc:language>
  <cp:lastModifiedBy>TAJ Simmons</cp:lastModifiedBy>
  <dcterms:modified xsi:type="dcterms:W3CDTF">2003-01-14T16:08:11Z</dcterms:modified>
  <cp:revision>44</cp:revision>
  <dc:subject/>
  <dc:title>Free Sample Awesome PowerPoint Background Template</dc:title>
</cp:coreProperties>
</file>