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© 2003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etche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58"/>
                </a:solidFill>
                <a:latin typeface="Arial"/>
              </a:rPr>
              <a:t>Slide </a:t>
            </a:r>
            <a:fld id="{0D42690D-B353-4501-AC05-90328B3CADC8}" type="slidenum">
              <a:rPr b="0" lang="en-GB" sz="1400" spc="-1" strike="noStrike">
                <a:solidFill>
                  <a:srgbClr val="00005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90720" y="1981080"/>
            <a:ext cx="7238880" cy="1371600"/>
          </a:xfrm>
          <a:prstGeom prst="rect">
            <a:avLst/>
          </a:prstGeom>
          <a:gradFill rotWithShape="0">
            <a:gsLst>
              <a:gs pos="0">
                <a:srgbClr val="143c65"/>
              </a:gs>
              <a:gs pos="100000">
                <a:srgbClr val="33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133360"/>
            <a:ext cx="6934320" cy="106668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94c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Etched01” Title Slide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 hope you enjoy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Bullet Lis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template first save this presentation u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give it a new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7040" y="1537560"/>
            <a:ext cx="281916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3442680"/>
            <a:ext cx="198144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3440" y="3442680"/>
            <a:ext cx="228600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eremia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48520" y="3442680"/>
            <a:ext cx="228600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usti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1-31T12:58:41Z</dcterms:modified>
  <cp:revision>29</cp:revision>
  <dc:subject/>
  <dc:title>FREE Sample Awesome PowerPoint Background Template</dc:title>
</cp:coreProperties>
</file>