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D28841F0-4E54-4B34-A83B-BA251F15A14A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Help-0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3048120"/>
            <a:ext cx="72388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94840" y="3251880"/>
            <a:ext cx="6830640" cy="96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elp” Title Slide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ffff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9:10Z</dcterms:modified>
  <cp:revision>42</cp:revision>
  <dc:subject/>
  <dc:title>Free Sample Awesome PowerPoint Background Template</dc:title>
</cp:coreProperties>
</file>