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66BA1B-9C1C-4182-B9AD-20F15C3FCE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B03BD1-A106-448E-A549-993A0FDAFA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FC5DF7-EA2F-4B4F-BDEC-27873A17FA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6387C5-04CE-404A-9F57-AF3E3CA5E4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6FB3FB-809C-40B6-B754-31FC8A6F9E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F64B3D-6C06-47FC-97E2-4DCFC320A9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BF8A12-09EE-4493-A460-B8D4749FAA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358308-4558-40A0-BF88-6DACF5297D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CE8E5A-D3EB-465B-9257-CB98D07138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F007C0-70F5-414B-8520-165B7BE13D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5B6D40-441C-4AD6-99AC-AAF6B74626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8FA12F-83ED-4983-A04A-D269772F3E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4C911-ABE2-4485-9848-F68805AB22DF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5f5f5f"/>
                </a:solidFill>
                <a:latin typeface="Century Gothic"/>
              </a:rPr>
              <a:t>Click to edit the outline text format</a:t>
            </a: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  <a:p>
            <a:pPr lvl="1" marL="457200" indent="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198108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5400"/>
            </a:br>
            <a:r>
              <a:rPr b="1" i="1" lang="en-US" sz="5400" spc="-1" strike="noStrike">
                <a:solidFill>
                  <a:srgbClr val="990000"/>
                </a:solidFill>
                <a:latin typeface="Century Gothic"/>
                <a:ea typeface="ＭＳ Ｐゴシック"/>
              </a:rPr>
              <a:t>	</a:t>
            </a: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4191120"/>
            <a:ext cx="4267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209680" y="52704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2704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657600" y="5334120"/>
            <a:ext cx="1752480" cy="76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5715000" y="5334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334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4343400" y="4191120"/>
            <a:ext cx="4267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ndy Clement, George Har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 La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6477120" y="533520"/>
            <a:ext cx="2133360" cy="173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BE4DDD-F13F-40AF-BD61-521FA36E116D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ngineering challenge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ight integration with the J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s expect advanced feat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ger par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 Java model is not inherently exte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C0E04E-21C2-4B65-8A27-C7AE54D7298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ancaster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ge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 outline upd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e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u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and run to break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45FBF0-190C-456E-B372-4CD96264F9E8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3. new crosscutting views</a:t>
            </a:r>
            <a:endParaRPr b="1" i="1" lang="en-US" sz="36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istening to user feedback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orking with larg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effects of crosscutting can be un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sition of advice can be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ory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I design page and bugzilla reports linked from 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ea typeface="ＭＳ Ｐゴシック"/>
              </a:rPr>
              <a:t>http://eclipse.org/ajd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4572000"/>
            <a:ext cx="8686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636563"/>
                </a:solidFill>
                <a:latin typeface="Arial"/>
              </a:rPr>
              <a:t>I wasn't seeing an advice being executed and the that part of code was little unfamiliar to me. So I had to perform a search to find out the subaspects. If I had the proposed feature, navigating to those aspects would be so much easier. </a:t>
            </a:r>
            <a:r>
              <a:rPr b="0" lang="en-US" sz="2400" spc="-1" strike="noStrike">
                <a:solidFill>
                  <a:srgbClr val="636563"/>
                </a:solidFill>
                <a:latin typeface="Arial"/>
              </a:rPr>
              <a:t> Bugzilla report 509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EFBB3-3A6E-4E7E-B120-ADDC37714918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505320" y="2666880"/>
          <a:ext cx="5457600" cy="393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3429000" y="2612880"/>
          <a:ext cx="5541840" cy="398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41840" cy="39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6" name=""/>
          <p:cNvGrpSpPr/>
          <p:nvPr/>
        </p:nvGrpSpPr>
        <p:grpSpPr>
          <a:xfrm>
            <a:off x="660240" y="1596960"/>
            <a:ext cx="7315200" cy="790560"/>
            <a:chOff x="660240" y="1596960"/>
            <a:chExt cx="7315200" cy="790560"/>
          </a:xfrm>
        </p:grpSpPr>
        <p:sp>
          <p:nvSpPr>
            <p:cNvPr id="157" name=""/>
            <p:cNvSpPr/>
            <p:nvPr/>
          </p:nvSpPr>
          <p:spPr>
            <a:xfrm>
              <a:off x="660240" y="193032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69720" y="159696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will the advice app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AAB4BF-F853-492B-AD39-725AFCB49E94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60240" y="1574640"/>
            <a:ext cx="7315200" cy="790560"/>
            <a:chOff x="660240" y="1574640"/>
            <a:chExt cx="7315200" cy="790560"/>
          </a:xfrm>
        </p:grpSpPr>
        <p:sp>
          <p:nvSpPr>
            <p:cNvPr id="163" name=""/>
            <p:cNvSpPr/>
            <p:nvPr/>
          </p:nvSpPr>
          <p:spPr>
            <a:xfrm>
              <a:off x="660240" y="190800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69720" y="157464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as graph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Eclipse call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505320" y="2666880"/>
          <a:ext cx="5457600" cy="39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3429000" y="2612880"/>
          <a:ext cx="5533920" cy="398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33920" cy="39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E027C-2863-4235-97A9-199563B01A2F}" type="slidenum">
              <a:t>15</a:t>
            </a:fld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ultiple advice at same join poin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my system has many aspec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their order of execution is relev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declar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precedenc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Debug, Coordinat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7696440" cy="37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B2ED5-95C5-424C-AF8A-6054F62A6DED}" type="slidenum">
              <a:t>16</a:t>
            </a:fld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380520" y="51051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structure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5791320"/>
            <a:ext cx="8610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wrap-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tensibility and contribution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sourc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APIs for IDE plugins and 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 need contribu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and views can be reu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2280" y="4041720"/>
          <a:ext cx="8763120" cy="24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041720"/>
                    <a:ext cx="8763120" cy="24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45A8FC-3D13-4F93-9E24-49655DAAE661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Erik Hilsdale, Ji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gunin, 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Andy Clement, M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sten and 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AspectJ in Action"/>
          <p:cNvPicPr/>
          <p:nvPr/>
        </p:nvPicPr>
        <p:blipFill>
          <a:blip r:embed="rId1"/>
          <a:stretch/>
        </p:blipFill>
        <p:spPr>
          <a:xfrm>
            <a:off x="6775560" y="1790640"/>
            <a:ext cx="2063520" cy="2476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095880" y="44197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396059-7815-4A72-A48A-CF138003AAEC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34286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1. aspectj tools suite</a:t>
            </a:r>
            <a:endParaRPr b="1" i="1" lang="en-US" sz="40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04560" y="5181480"/>
            <a:ext cx="755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4419720"/>
            <a:ext cx="7619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BEBF8F-1B7D-4FBE-8D72-F3F894E42AB7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1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005066-00E3-4599-A724-B5B7F5789214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build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3CC372-72AC-4205-9DF3-C51CEE2B8206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etbeans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3AAD32-A2C6-4208-B592-397696F2BED9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jbrows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6E8299-954D-41F9-B507-DB5F6A6171D4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mac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E7B8B8-4D8C-429A-82FA-4B9ECBEAE4AF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lipse (up to 3.0m4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5BFB0F-BA0D-49C6-80CF-54EBB759EE99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2. next generation ajd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03-25T15:08:41Z</dcterms:modified>
  <cp:revision>500</cp:revision>
  <dc:subject/>
  <dc:title>Aspect-Oriented Programming with AspectJ</dc:title>
</cp:coreProperties>
</file>