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779BA09-7450-4083-8122-413935A252F5}" type="datetime">
              <a:rPr b="0" lang="en-US" sz="1200" spc="-1" strike="noStrike">
                <a:solidFill>
                  <a:srgbClr val="000000"/>
                </a:solidFill>
                <a:latin typeface="Comic Sans MS"/>
              </a:rPr>
              <a:t>07/29/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270095-2697-4DC0-A5AB-D1EE324DD7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790977-0FA8-4147-8E46-85CA40C23B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43AAF7-C094-4BF3-8A36-A0685BCE74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0CCECF8-3BC7-4C06-A2F7-4E33938E9D8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B5FFB6-65B9-4F68-846B-FDB82931B1B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40BB806-368F-49DF-AD5C-616A7721C5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407E65-CD46-4866-9365-3637604E97B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56B649-A187-4C3F-9DE3-D545EC11EC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411048-11A6-4CEB-95AC-30CD694F2D2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FBDF22-CA56-4D0B-A613-C9CE84B091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BA6F2C-0532-45C0-AD0C-905AEB739D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9BD212-91F1-4817-8490-3BBC5E7B4E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84A5C9-704F-4638-9BC0-27A6237C0A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978816-FAF3-4814-8118-FC460A158F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9853C38-C122-4B97-A0F6-181FF3EA2D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5D68F2-85EF-444E-A0BB-B746D7247B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5B2E94F-25FC-4B09-AD0F-67B5443BE9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FDC6E9-05C1-4E2C-A899-96D501108B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CD198EC-5DFF-44B3-B690-E882271A43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495BB1E-3AF8-450A-B616-58439235F6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73E5F6-CB16-46AC-906A-7F53BBCDC4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C198C9-9029-49F1-BCDD-BD5179BABE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9517E4-E66A-42DE-928B-3F51123F33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6E2B8F-1646-4AA9-804A-C03B96247C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E59893-C295-487F-B358-0A7EEAA621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A97F239-51CA-4728-BE6E-26E6AF11B3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E9E44BE-7D11-4EDD-B2E0-B5B649AEDB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5659D3-E4AC-48BA-B370-995280C229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20BFA1-C792-4428-B9D9-B48B961313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E53283-5921-41FC-B35E-BA05D47386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C38FF5-CBD2-4707-B31A-69EE0A27B2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4BDE38-2D76-4692-B5C8-947796E6E9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995E8E-2263-4654-AD4E-06D17E31E3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3C5AD0-5DE0-4A76-A132-8F63CE614D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0F2D-56F0-45F0-AAAA-C8CE3DE3563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1B86-1CDC-400E-B3EB-2D5438D7744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BC73C700-42F9-4290-82D5-9D186DC6B0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33E681-4F9F-418D-A62E-F9E22B25C6F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33472D-5ED4-4AAE-887E-6B6FB877165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47D031-4C14-43A9-9B0D-2E1B493C763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C60EBD5-2D08-4548-B538-33EE9E662CB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8B8210-5F69-41D2-8762-793E1F45A90C}"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0B8BA1-5DBE-4506-B5C1-64ADA6D50A60}"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DB3414-D4D8-4E81-9480-A03F8F50E5D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D02764-0FD9-4F41-A0D1-F0C3249FD4A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228BFB-6153-43B1-A8C1-FE48D7006B54}"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349893-F6BC-4AFA-B107-39721CF4E7F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63497B-0E2C-4F45-A42D-DF520E488FF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51EEEB-C29F-451D-BA8B-4F88DA2DB498}"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F1FF2D-55E7-42E9-8B2E-B2DA9F3F84B1}"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5B5B45-401A-473B-ABE6-BB9DA1A1DCAD}"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BAD11A-374F-468D-BCB8-0E0018605E9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51E650-DDC8-4453-B7E2-F2FD3550252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813890-D7CD-48F1-BB73-53254F7C08E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181AC1E-E1A9-4DDE-9506-FA3FD6E6EC6B}"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4A26263-9625-4FE9-9EA4-FB2DD71FEA83}"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8E6C7A-67D9-496A-9A43-252FABCC9A4F}"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D6B877-C4DE-4606-9803-182441CA740B}"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74BAC0-71E7-4285-9230-914C72196D7C}"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A9513C-A62A-477B-81DA-B1B21EDC8BCA}"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05033C-ED5F-4FB9-99BF-25B4048FCA6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6C91AB-8613-4B10-9878-283E9011CE78}"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9788FB-151F-4447-A954-108ED00729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4B6A38-D371-4E43-A954-821E13B14E4B}"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97CE659-D11F-4140-B967-C2D70294EE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3480E6-F880-4D24-A9E3-2C9B1E4161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D7A287-8929-4DDC-8E67-A3B9E63BAA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FC86BE-43D8-4778-8796-8C4AC79DA1FF}"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1F523E-BD71-4F3B-BF29-93C5C14BAA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065FD8-0456-405B-8B89-852E8E9ED5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3CB29D-3B26-4C0A-8EB9-EFBB036FE1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60934F-6AC4-493C-8576-3715611ED0DB}"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FFC595-5291-4DB0-A9B3-9AFE3FCE75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A39F6B-AFB2-41B3-836D-FE17DBCE2E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A7DCE2-17BD-42B9-97C7-2825CB3792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7DBC76-4295-42CD-B7CF-0EECD4D19856}"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CDD181-45AE-454B-8B4D-AB862A10B8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F3BFB4-E4C0-4FE4-BABB-5B15074DFB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1578DB-89A8-4C0C-AFC8-7122BC351F4A}"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788261-D6E2-4E93-87C7-B841F2EC0B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C1DE88-0C27-4A88-AAAB-37FAF59B84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CC3B1E-E441-4C79-9641-5F266A0E93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C84D4F-7822-4A53-92CC-DBFDEDC177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FAF6D3-C707-4BFD-A3AF-A4E0C164355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99D22C-DD68-4926-B3CB-B63E9E725CB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B7CAEE-B29C-4F07-B222-514273D8780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E1FC9B-7264-477F-B45D-8F6FC5301F4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303D1C-1FA8-4F87-AB85-5F3B77F84C8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030085-F3A1-46CE-88E3-47A45CBDF15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C10D44-878F-4A7E-805F-89043903CDD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5E521F-D859-4F47-B0FF-923EA93505D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76BFAF-4A2F-47A7-91EC-E8BEDEF3341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1D7B42-0AAF-4899-A0CE-AF40B2D40A8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FCA4C9-3828-4223-AC3A-32A90644E9C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0048CE-9C64-4633-BFE2-091BFD8FB8D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E7AD64-E81E-4F28-92AF-F65E3BBB58A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7E8AD4-84DB-4909-98AD-46A819323F8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3D8E7C-C4DB-4E0C-8E6B-E66185C88CD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45B15B-5B12-4B2E-B196-8DE5530977D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6E533F-39D0-4C81-B7CA-DB48B5E100E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4A1D6E-E2E7-4C77-9758-22F64B53DEE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C5B938-4E1F-49E6-8A9B-4C857F79305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B7302F-22C4-48B2-8AD2-D872492062F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B000FC-7D9B-49AB-821C-FED9C6AEEC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3502B2-F236-4339-962B-BADA9BE579B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DA6C23-1669-4463-976F-30C5CB3533A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D95E47-C3AA-42ED-B289-EF347052613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BC9C1C-FA62-4EE3-B3B8-9BBFA33334E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75B320-11C1-4334-9420-7D88A18F6FB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57B182-B213-49C3-98CA-76F375286E4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8651C6-4A9B-487B-B764-0B32F5D7AEB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9779D8D-B4A6-4D52-8EB5-CB35FF0BE34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570163-73F1-43A6-9442-126450C944F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1D03B3-47F5-4B5F-95D9-BA8BD71670A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D4F467-9CC8-4AB4-BD96-1ACBB8D2B3F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C6D4DF-8BD6-4863-9DD7-7A7ED958EC8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5FDBBF-0384-4155-84C8-F260082D4BD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B80A8D-4924-4CC8-A56E-E864260FF51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BC3CC3-0837-463E-925A-B7D9137DB6A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5CB8E3-3BC8-4CC1-9340-485F63CECE7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7262B9-B539-4725-A45A-5451945534B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C9F71A-66E6-45B4-A12A-2050AB03109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2C3C2F-1E5C-4D11-8EA6-E467C8EDD9B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B8B77F-3A6C-4202-BDF2-115ADA387C0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F55DBC-8226-42F7-BFA0-7602E8CB134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A072AB-DA18-424E-B195-9DA0F849D6A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240519-EB0A-40D3-82C0-6768A1E2E3A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776B6E-CC9B-4A5B-8DD4-1F9F297C1C38}"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12ED88-6D65-4E45-97F8-0D9BB49A119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B40F7B7-FE50-4659-A126-B5304C5905C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442883-CB46-4CE0-A105-D1155E4A373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838B36-A86D-44EF-AF78-44E0EC2055E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444CC3-653B-4CE1-819A-AA43C1FDDAA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7F3FAA55-7765-4DF8-84CC-52EB9EA571DD}"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AB886B-3601-4C86-AA47-C6A94B78C99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83F509-5A93-462A-AD7D-7B71195F1ED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6DF21A-5CC8-4F64-A012-E95D8588A2F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2D9BA2-1774-4C06-A91D-FB8556CAA1A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F6EFA6-2CB9-449C-9389-8922214C965B}"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BBF4F0-4186-4B9F-A728-60179FA9CE71}"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AE8DDC-032A-474B-B856-4B9800F5CD0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5A19D9-9438-4464-8074-2955AFC0B7A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2B401B-D4D3-482B-9038-7686A913CB7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FD7988-C607-41FB-BC86-3FBDC3F49DBE}"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6E2DF9-4C49-413E-B0FB-5A723C3919A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267B0E58-F351-4C63-BBE7-B8FB1B07F5F1}"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F56C18-1CA6-4E1B-8712-2AD2AF67384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CD7D22-E7F0-46FD-A13C-EA1B3E5D1592}"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E368B5-01F9-44CB-8070-1170D70A25A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F500E2-8F64-451E-B15C-B61027162D7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BB9487-9ABF-4E9D-BDD1-0E3C5655656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1D608E-C4AB-4DB3-895E-7408712A76C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B0EA7D-E1B7-43FB-B230-D10D44DDF9E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36764C-8E9A-44D4-A711-4BB31960A3D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84B54E-9ABC-4878-A8BE-D859C42CB37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B334D5-2EFE-4F7B-9E89-AA60EBD1423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939151-11C7-48D1-B667-84271F6B17E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