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17527"/>
        <c:axId val="12574269"/>
      </c:barChart>
      <c:catAx>
        <c:axId val="77917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74269"/>
        <c:crosses val="autoZero"/>
        <c:auto val="1"/>
        <c:lblAlgn val="ctr"/>
        <c:lblOffset val="100"/>
        <c:noMultiLvlLbl val="0"/>
      </c:catAx>
      <c:valAx>
        <c:axId val="12574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17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507-D342-4406-8F10-1635906F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4F7-B183-42EB-91C3-5E418410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0FB-182C-43D7-87BA-EF840E8D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B4E-BDB9-4D47-A38C-D8020083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8BB-B369-411E-A795-A3784F4E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FF1-9E5D-442C-8656-F9580F1B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988-6972-4622-8A94-CE12141B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C6A-C3F5-4323-A75C-F5D6A06D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07F-6FFB-45A8-A205-61D9371E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2CC-4ED2-451A-BE7F-E7CDACB7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554-CFB4-41BF-B92D-565DF09A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9C6-0451-45A8-AF5C-00CB39AB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7C60A-7C1E-485C-AEF6-EAC175F0F4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