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30552"/>
        <c:axId val="76080674"/>
      </c:barChart>
      <c:catAx>
        <c:axId val="42330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80674"/>
        <c:crosses val="autoZero"/>
        <c:auto val="1"/>
        <c:lblAlgn val="ctr"/>
        <c:lblOffset val="100"/>
        <c:noMultiLvlLbl val="0"/>
      </c:catAx>
      <c:valAx>
        <c:axId val="76080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30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69A-8873-47DA-B8C6-D074F16A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14F-254E-4277-B021-99DDCE73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9886-53B2-410D-B0E6-8D3C7AD5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120-4F65-4547-8E55-B02E53B0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E7E-6D30-4D16-9946-61EA6754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F4F-A5A9-4FC3-AE6A-4FF1E3EA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0C0-5A7C-4FB3-981C-097942A9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638-8C5E-4DAC-9EEA-997CFFD9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910-6E93-497C-96A9-DDE93D29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8FD-DA2A-461C-8729-5920567D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D23-9EF0-4A28-94A2-AF1CD471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EE7-5919-4A96-A88B-85BFDF56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77D4F-C9C4-4182-99A3-DF4E0DEC14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