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05969"/>
        <c:axId val="9400245"/>
      </c:barChart>
      <c:catAx>
        <c:axId val="19205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0245"/>
        <c:crosses val="autoZero"/>
        <c:auto val="1"/>
        <c:lblAlgn val="ctr"/>
        <c:lblOffset val="100"/>
        <c:noMultiLvlLbl val="0"/>
      </c:catAx>
      <c:valAx>
        <c:axId val="9400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05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7BF-9FEE-49DD-9B41-FCCBAD30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695-DFE9-4C81-AC65-E0D2761E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AFC-D8B9-428B-91F1-5B43A540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2BA-B7B1-4110-B6DF-8DE9158B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938-7B2A-4F71-9671-15E1F44A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7A7-FBE4-466E-91A2-3099B48E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C56-D113-4253-820B-7C455E86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FE5-8FE5-4A00-80C8-63E18538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139-70D5-47EA-81A0-BD794B9E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7B2-8AD6-45AE-8A14-ABE61AE6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BFF-7414-4C78-9A58-2424E11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26A-8087-4EC7-A7F1-ED171CA3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F29BE-CA34-407A-AFA4-CDF120E5CA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