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0179067"/>
        <c:axId val="86092"/>
      </c:barChart>
      <c:catAx>
        <c:axId val="9017906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092"/>
        <c:crosses val="autoZero"/>
        <c:auto val="1"/>
        <c:lblAlgn val="ctr"/>
        <c:lblOffset val="100"/>
        <c:noMultiLvlLbl val="0"/>
      </c:catAx>
      <c:valAx>
        <c:axId val="8609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17906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92E62-4C90-4EDB-8FDE-BEF351D8A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63954-C131-4020-9549-811F0BFC2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0ADA9-4807-4868-BCE0-0E4D133F5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D2BBD-E28A-4956-9EC7-40E70A9D0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8496F-ACD8-4F5C-8092-6C8E42B47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96BF6-1F5F-4B31-9BB6-782ACB85D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9AE96-3356-472C-8B72-B9CF028E5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39C08-8124-4872-81B9-88383A61D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9452D-5B19-4928-BF9E-E90DF24E8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F4FC9-0B6B-429D-B8C7-BDD594580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E2D75-5696-4020-9A2F-2B4883857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4FF6D-B0A5-4AB1-8590-A8923291E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A0AED4-A3DD-4C32-B725-310A711B963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