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17754"/>
        <c:axId val="58247235"/>
      </c:barChart>
      <c:catAx>
        <c:axId val="75317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47235"/>
        <c:crosses val="autoZero"/>
        <c:auto val="1"/>
        <c:lblAlgn val="ctr"/>
        <c:lblOffset val="100"/>
        <c:noMultiLvlLbl val="0"/>
      </c:catAx>
      <c:valAx>
        <c:axId val="58247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17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313-B7EE-41D9-91DE-922860A3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D40-DBF5-44D0-B29B-DE3DA568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55B-55A4-4F40-B828-0A85F32E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0CA-6555-4DA2-9759-2F7433DC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EFA-5016-4956-99B7-1B6AEF7E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5BE-C757-4B75-A40D-53018937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685-0BD8-44E0-823C-8E27B146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BCF-413D-459B-BEE8-0DD38C96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1AD-8E9C-460E-9744-190851FD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717-5144-4890-B70D-2AAF07B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F1C-3DC7-43A4-9460-F4C13E1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C11-E067-4DD1-8A63-E4A201E0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66858-260A-4145-975E-7CFF3D6A20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