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29123"/>
        <c:axId val="91194317"/>
      </c:barChart>
      <c:catAx>
        <c:axId val="58429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94317"/>
        <c:crosses val="autoZero"/>
        <c:auto val="1"/>
        <c:lblAlgn val="ctr"/>
        <c:lblOffset val="100"/>
        <c:noMultiLvlLbl val="0"/>
      </c:catAx>
      <c:valAx>
        <c:axId val="91194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29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200-9ACE-42AE-89D5-2A65CE1C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E31-6AEC-4F27-83F8-C14F9C8B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127-3292-42EC-8DEB-568E91E7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6D7-69D3-4665-BCD4-1A6F4A4F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31E-3CB0-4F33-A240-271E9617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0C3-0DB6-4E22-AFE9-AB56F8B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B3D-B2B7-4E88-B8C3-844174C1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620-0DBA-4EE1-8A92-E00ED5AD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EAE-4501-44E7-B0E6-D7BD173F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760-09EF-412D-AA17-2F59BBB6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DB0-024E-4EBB-8E5D-DE71F0A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B51-7299-4853-9757-DA1EAB65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2D7F3-C37B-467C-95C8-B44057E868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