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03863"/>
        <c:axId val="35076706"/>
      </c:barChart>
      <c:catAx>
        <c:axId val="58903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6706"/>
        <c:crosses val="autoZero"/>
        <c:auto val="1"/>
        <c:lblAlgn val="ctr"/>
        <c:lblOffset val="100"/>
        <c:noMultiLvlLbl val="0"/>
      </c:catAx>
      <c:valAx>
        <c:axId val="35076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3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327-E249-4539-9CD6-B0F856A9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6AD-E62D-46B9-BB59-E0DD61A3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B5D-205E-45E9-A236-4FFC48E9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FFA-D073-48F4-A9E5-D40E7171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655-8F3E-43B1-A86A-E349344A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F8E-3CCD-4B60-ACC3-A7B79FD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ED2-55FB-4A88-8E42-F389CBB2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168-C3E8-4B9C-B35B-C8BE357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ED7-9E7E-4EC0-8C7E-A757574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5A9-F68A-404B-B62C-B1297BC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AC4-3541-4C82-A440-6601D2B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BB0-9777-4CC2-97F6-CCF45F7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B219-9F1E-425A-B205-7DCF2967D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