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9915"/>
        <c:axId val="79779391"/>
      </c:barChart>
      <c:catAx>
        <c:axId val="2309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79391"/>
        <c:crosses val="autoZero"/>
        <c:auto val="1"/>
        <c:lblAlgn val="ctr"/>
        <c:lblOffset val="100"/>
        <c:noMultiLvlLbl val="0"/>
      </c:catAx>
      <c:valAx>
        <c:axId val="79779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9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6B7-C355-46A6-95D0-A6E96781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2D7-E49E-4367-8412-F4F4601F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29E-3D42-4506-8BED-A5645AF4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EA5-4F8B-4716-875E-71FB90E5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2AA-0E64-4ED4-893E-D1CE0E2E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E35-7441-47D3-9D66-310A0065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1C7-63D4-4C87-832D-63C0EAF8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A5A-7D85-47E2-95F3-E070DA0A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0C0-5C30-478C-A550-6414DA49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FCC-2588-488A-8676-3D3B191E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168-F278-4F38-9A93-502CD777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64B2-639F-468B-AEAA-FD2897DB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07B23-4B12-4C32-8558-CB1A1FF322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