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03106"/>
        <c:axId val="6257108"/>
      </c:barChart>
      <c:catAx>
        <c:axId val="71203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7108"/>
        <c:crosses val="autoZero"/>
        <c:auto val="1"/>
        <c:lblAlgn val="ctr"/>
        <c:lblOffset val="100"/>
        <c:noMultiLvlLbl val="0"/>
      </c:catAx>
      <c:valAx>
        <c:axId val="6257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03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430-AF58-40B1-9A54-35F4AC80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57C-46E9-4701-825E-C28B52CB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7D6-5383-443A-881E-E8235708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19C-828F-41B0-9736-70CBE6B7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1C0-0231-4611-AFA1-91D439FE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D32-6853-4D38-97B1-14AA74B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FBE-5977-4178-B258-73525B5C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618-E1B9-4232-AEB5-A5BD0952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C46-2E95-4594-B35F-51206F42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BFE-98D4-4EDA-84D7-3A4ACE7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0EA-78C6-48F5-854B-45F38428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643-7653-48E5-8D3B-B75868E2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BD87-E9B4-4341-B001-7D56D1C953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