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76873"/>
        <c:axId val="60752717"/>
      </c:barChart>
      <c:catAx>
        <c:axId val="46076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2717"/>
        <c:crosses val="autoZero"/>
        <c:auto val="1"/>
        <c:lblAlgn val="ctr"/>
        <c:lblOffset val="100"/>
        <c:noMultiLvlLbl val="0"/>
      </c:catAx>
      <c:valAx>
        <c:axId val="60752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6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5E4-7925-45EC-892F-08DB6D1D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611-F7A4-4A42-9099-9FA9A072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724-8EDE-4B88-A6DA-174A5CC9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E0A-562F-48A6-9B89-664004ED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381-E668-44ED-B071-CE46A979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F93-3745-4871-BFDC-30482A6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511-A065-4F38-B64C-24C99CD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4CD-18A2-4193-A433-6B27C72A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D41-1559-464C-B848-2C75931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531-0A3C-4D28-BC06-2054C41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7B1-EC5D-4A2B-AB45-DA80D34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DD9-33D7-4351-AF6E-933F386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14375-A211-41FA-9125-3C22B47469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