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18623"/>
        <c:axId val="6622952"/>
      </c:barChart>
      <c:catAx>
        <c:axId val="48018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2952"/>
        <c:crosses val="autoZero"/>
        <c:auto val="1"/>
        <c:lblAlgn val="ctr"/>
        <c:lblOffset val="100"/>
        <c:noMultiLvlLbl val="0"/>
      </c:catAx>
      <c:valAx>
        <c:axId val="6622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18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8AB-CA64-4C41-860B-58BAD3AE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754-CB92-4607-BB68-66057DE5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654-52B3-48E1-B653-19436AF2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568-9E56-4A0A-9E21-98395C2D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5E3-0B9F-42A8-8A83-C4F31A30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5F6-41C4-4CF4-AA8B-4A7AF1C7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8E4-64FF-4059-8306-206BAD99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753-FE5B-4EC2-89EF-479232FA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F86-747F-4E0A-AA25-7BF0FBE2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C87-B15C-490A-8541-A206579C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616-1FB2-4022-A74E-7B26C8E5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DCF-9F6C-4CEA-B142-4A0824E3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8ECAB-B680-4A32-A31B-3AB06E3914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