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58422"/>
        <c:axId val="99655939"/>
      </c:barChart>
      <c:catAx>
        <c:axId val="14758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55939"/>
        <c:crosses val="autoZero"/>
        <c:auto val="1"/>
        <c:lblAlgn val="ctr"/>
        <c:lblOffset val="100"/>
        <c:noMultiLvlLbl val="0"/>
      </c:catAx>
      <c:valAx>
        <c:axId val="99655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58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F1D-28F6-47C4-8396-3349C4EE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D04-349A-4FB2-8376-6F37B0BB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FA9-69C7-4406-97CA-4689E413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515-4215-49B1-A0BD-48A35983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48E-6B8B-427E-AB12-8C0D0BF6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3F9-07CB-4DED-8F42-C42B9FFF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998-21E9-43E8-9ED4-464F169E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472-075C-4AB1-9225-8B724D5E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983-D1F5-4F9C-8EBB-22DF307A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FA7-E22E-4505-9DBD-C8B6DC18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9AE-B152-4FFB-8EF1-C4A853B2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BA4-187F-4EB2-81A5-DC132A4F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4294A-CCD8-4B73-9729-21EF845966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