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8230825"/>
        <c:axId val="34122666"/>
      </c:barChart>
      <c:catAx>
        <c:axId val="4823082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122666"/>
        <c:crosses val="autoZero"/>
        <c:auto val="1"/>
        <c:lblAlgn val="ctr"/>
        <c:lblOffset val="100"/>
        <c:noMultiLvlLbl val="0"/>
      </c:catAx>
      <c:valAx>
        <c:axId val="3412266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23082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F76F-A576-4E10-86F9-63BC461AA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6079-3B5C-48C6-9318-E2BEA05C5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8C5D-B251-4136-A5C8-CB3CBCBB8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D3E7-18D2-4D0E-A2EB-AB9D1A28A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5237-3C1A-4E79-A20A-0430F1E3C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87A7-325A-46A4-AEF4-EF30CCA89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FEC8-F206-4376-B7FC-0B37AE9A4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458F-D63C-449B-9FB6-785A6BFC3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5CDE-A4CE-4B24-9B1F-065B684E7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3107-598B-4253-A43B-782F26F42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1E39-F456-40F8-8919-C05FE9A28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AEB0-B9C3-460B-A9AF-8B362F978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3B2584-6F4D-4476-9ACC-EBA0F06EDC8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