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925621"/>
        <c:axId val="68589480"/>
      </c:barChart>
      <c:catAx>
        <c:axId val="329256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589480"/>
        <c:crosses val="autoZero"/>
        <c:auto val="1"/>
        <c:lblAlgn val="ctr"/>
        <c:lblOffset val="100"/>
        <c:noMultiLvlLbl val="0"/>
      </c:catAx>
      <c:valAx>
        <c:axId val="685894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9256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1A5B-6CE0-47D6-9E1C-368FF6B69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9767-51DF-4996-8CCE-684A08E2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D7EC-768D-49E8-8FF0-0DB755B39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A286-767C-4EF8-8E52-EACC20016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8F41-FBC9-4A68-BEB2-9A79332C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22CA-228B-4642-AA5A-5956CA64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BA9E-998D-4B67-988E-6D4C64F9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27A6-56A7-4B08-B5F1-8D1DDCD7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4E20-E2DF-4C75-A9FB-1D7F5DBF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2D63-9E95-482A-8D62-65FF44F7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D69F-3E57-4D56-A15E-D0FDBBC9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4220-B135-4081-BF65-8EB2CE3B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94FEC0-A865-416C-BDB4-9BD83AB03F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