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56701"/>
        <c:axId val="74264058"/>
      </c:barChart>
      <c:catAx>
        <c:axId val="32356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64058"/>
        <c:crosses val="autoZero"/>
        <c:auto val="1"/>
        <c:lblAlgn val="ctr"/>
        <c:lblOffset val="100"/>
        <c:noMultiLvlLbl val="0"/>
      </c:catAx>
      <c:valAx>
        <c:axId val="74264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56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6EB-5B72-4E8A-9F2E-5CF7D05D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424-A1D1-41C9-9CB6-6582CF0A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2CA-4859-4567-AC12-74615714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EB2-873D-4CA0-ABF1-F234FAAB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09D-33DE-4E70-80C8-D282E18D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81C-DEC7-4DBE-A376-34067684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08B-A319-43CE-84D5-887F01E4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C8B-99E3-4AB5-AA45-9EAB75C2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CB7-BEF5-477E-B8DC-6DF96272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9BA-9426-4298-B215-96F704E6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A69-5822-4E6B-8963-4FB1F22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6F9-5C42-4E22-AE89-76E3601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9EAE-A2B1-4704-A5DC-3D980B95E6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