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24451"/>
        <c:axId val="20469051"/>
      </c:barChart>
      <c:catAx>
        <c:axId val="88424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69051"/>
        <c:crosses val="autoZero"/>
        <c:auto val="1"/>
        <c:lblAlgn val="ctr"/>
        <c:lblOffset val="100"/>
        <c:noMultiLvlLbl val="0"/>
      </c:catAx>
      <c:valAx>
        <c:axId val="20469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24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145-6C60-4986-A0CF-23CC225F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24D-45C0-4E0B-B667-DC66E383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D52-BFC2-49E5-B9EB-E27DEBA0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260-87CB-4C50-9CCC-6392B90A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4AF-5330-4FBD-979E-CD09EEE9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DC1-C3D6-46EC-8B66-71BA28B3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AA65-6BF3-473C-8A46-1326B07E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C98-94B4-48BE-BF87-A8F79D58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C61-3C16-4783-8A31-8083BF87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245-4162-4706-9616-966C4239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3DB-DEA7-4F6B-97ED-BF0C7B27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4DA2-B46F-45E5-9741-7BF95824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761E9-47F6-4574-BB24-1BBBC2C3AF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