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51135"/>
        <c:axId val="115308"/>
      </c:barChart>
      <c:catAx>
        <c:axId val="67451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308"/>
        <c:crosses val="autoZero"/>
        <c:auto val="1"/>
        <c:lblAlgn val="ctr"/>
        <c:lblOffset val="100"/>
        <c:noMultiLvlLbl val="0"/>
      </c:catAx>
      <c:valAx>
        <c:axId val="115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51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27A-F5B4-44B8-B64B-D2FB51EA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003-7C33-4558-A2D2-8F6C9AB1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B5D-4D4A-4217-BE3D-0E030031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243-84E8-4214-A79A-E5B6B3E5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C02-DD6E-496B-9E66-23C3E689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586-85BD-4227-B5FB-516CEC4F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E64-D674-4B48-B217-9FE28B0E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BA8-40E7-4713-9FA8-C18E1B9F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4B0-D628-4836-B000-584FB02D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378-FD12-44C7-AC99-B4485E78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D71-17A1-400B-B93D-B80C5FC0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C74-5EC9-4E8D-BBAB-CAD1554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6FA14-31EF-42E4-91A5-FEC8AB062C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