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68113"/>
        <c:axId val="81067583"/>
      </c:barChart>
      <c:catAx>
        <c:axId val="45268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67583"/>
        <c:crosses val="autoZero"/>
        <c:auto val="1"/>
        <c:lblAlgn val="ctr"/>
        <c:lblOffset val="100"/>
        <c:noMultiLvlLbl val="0"/>
      </c:catAx>
      <c:valAx>
        <c:axId val="81067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8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EA9-EF61-4A0A-913A-54A479B9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F7D-BAFC-4125-99FD-AC9D20B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DFB-86D0-4EC4-97CC-CB8B4906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F67-69B5-462C-BAD7-2720EB4C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C09-2697-43F0-87D2-54B5AAD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529-51F2-4713-8194-5E35167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914-A92A-489A-B1C9-7B24F701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06E-1C5D-4846-8E87-386BA7D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46A-AE39-4396-A88B-11F60F7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308-1B93-41CB-ABA8-897DA6D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B80-0E1C-4FA9-80C7-2E43080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6D7-400D-4558-8362-E8EED3C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F1A7C-DBBC-469D-B171-02E7CD057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