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331076"/>
        <c:axId val="41281709"/>
      </c:barChart>
      <c:catAx>
        <c:axId val="103310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281709"/>
        <c:crosses val="autoZero"/>
        <c:auto val="1"/>
        <c:lblAlgn val="ctr"/>
        <c:lblOffset val="100"/>
        <c:noMultiLvlLbl val="0"/>
      </c:catAx>
      <c:valAx>
        <c:axId val="412817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3310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3BED-418F-457D-8097-67415B3E9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9836-C069-474E-A63C-D7BC27C57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CBDF-0B06-460B-952F-54616599C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78C8-BC58-4C03-B11A-0A7BE15B3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1DF1-4DA5-4290-A8B4-CEE8322C1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8D09-424F-4566-9DFD-4FF40E5BA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74FA-0448-402D-9A01-4FFC23BCD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1AC5-C39F-41CD-8A9F-3C9182262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3686-C71B-4168-B104-A12D3CFB7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1D8D-CE4B-479F-B577-D85EBA7E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3E36-7B47-49EE-91BC-796189AB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758F-673D-46F3-946F-51B81F93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DC9B1D-60A2-4C87-B0DC-9C0F9965307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