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703444"/>
        <c:axId val="79406733"/>
      </c:barChart>
      <c:catAx>
        <c:axId val="557034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406733"/>
        <c:crosses val="autoZero"/>
        <c:auto val="1"/>
        <c:lblAlgn val="ctr"/>
        <c:lblOffset val="100"/>
        <c:noMultiLvlLbl val="0"/>
      </c:catAx>
      <c:valAx>
        <c:axId val="794067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7034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5D17-8DE2-4B89-A6CF-36BB741F9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55A0-F0ED-483F-B563-1B9348748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2FFD-81AB-4B7F-866F-D3EBCDBD7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7D4C-3A45-47A6-A9E2-7A2121D9A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AD74-84B8-46A7-B490-905866621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58DE-E375-4540-AAC2-75C091C6A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7C21-B646-45DE-ACAB-9863E9576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5517-5A5E-4C41-8BB6-A4F0CE92D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E007-C2E7-4037-B0C5-B3DD7C3A0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F087-1B01-4B96-88A5-B603D754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CAC8-5877-42B7-91E3-CA7CE9A0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1734-F267-4A71-A0A5-FD8D977B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A90CC9-8CBD-426B-9D1D-2312923ED28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